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9C2-2064-4216-9361-33B20590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2B5-0DA0-492B-8523-5E9A07C0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8DF-F7C0-44EC-B6F4-54A3F84C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31B-9236-44C3-83A7-FBE33AC9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2D5-6E90-4C0F-84FE-59982A0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FCF-2A60-4E56-A05E-7E50BDC3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8F8-7906-4710-8C50-346532F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211-11AD-4E3D-9C76-06AE64F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ECF-F107-498C-8695-5863BF90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711-5E9E-49F9-9E86-A7B8B65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B37-ACE1-4554-AE0C-353DEEBA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D32-D23F-4048-90FC-0993F7E8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3DD-E6A2-45CC-B295-907BCA5EF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oStKzbB2q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nwaqkja6T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TCn7xAKB8Y&amp;feature=related" TargetMode="External"/><Relationship Id="rId2" Type="http://schemas.openxmlformats.org/officeDocument/2006/relationships/hyperlink" Target="http://www.youtube.com/watch?v=XU8nMKkzbT8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0HMYLSUzTU" TargetMode="External"/><Relationship Id="rId2" Type="http://schemas.openxmlformats.org/officeDocument/2006/relationships/hyperlink" Target="http://www.youtube.com/watch?v=u0HMYLSUzTU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fining the ato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3808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t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mallest particle of an element that keeps its identity in a chemical 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30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atter made from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143000" y="24382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visible to the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14400" y="2895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critus =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ay “Hey, what about atom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43000" y="32767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uggest 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143000" y="36576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hey were indivisible and indestru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43000" y="4038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s did line up with later ideas on atoms, with exce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3880" y="441972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id not explain chemical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23880" y="48006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id not have basis of scientific research…best gu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ost elements occur as a mixture of 2 or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14479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isotopes are in the picture, whole number ratios 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43000" y="1752480"/>
            <a:ext cx="7238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ic mass takes the weighted average mass of the atoms in a naturally occuring sample of the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ncludes mass and how much of the element the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8954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ATOMIC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32004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eed to know 3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505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Number of stable isotopes of the of the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8862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ass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1911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tural percent abundance of each iso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72428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tomic mas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ss of each isoto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atural abundanc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decimal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riodic Tab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view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838080" y="1447920"/>
            <a:ext cx="5791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rrangement of elements in which the elements are separated into groups based on a set of repeating proper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ows comparison of properties of one element (or group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elements) to another element (or group of el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3505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roken i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76040" y="388620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ows (horizontal) called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374120" y="4267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7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447920" y="4572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roperties vary as you move a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olumns (vertical) called groups (famil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905120" y="1295280"/>
            <a:ext cx="6095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properties vary as you mov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haracteristics and properties are similar withi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362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 PROBLEM 4.2  PG. 1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DO 19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4   Nuclear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838080" y="13716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activity: process by which nuclei emit particles and rays (r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radi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1371600" y="1981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used by nuclear reactions, which differ from chemical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29"/>
          <p:cNvSpPr/>
          <p:nvPr/>
        </p:nvSpPr>
        <p:spPr>
          <a:xfrm>
            <a:off x="1676520" y="2209680"/>
            <a:ext cx="685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 chem. Reactions, atoms tend to look to gain stability (fu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 shell by losing or gaining electrons.  In nucl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, the nuclei of unstable isotopes (radioisotope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in stability by undergoing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0"/>
          <p:cNvSpPr/>
          <p:nvPr/>
        </p:nvSpPr>
        <p:spPr>
          <a:xfrm>
            <a:off x="2286000" y="3962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changes emit large amounts of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1"/>
          <p:cNvSpPr/>
          <p:nvPr/>
        </p:nvSpPr>
        <p:spPr>
          <a:xfrm>
            <a:off x="16765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uclear reactions are not affected by changes in temp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, or the prescence of catalysts.  Chemic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s affected by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iscovery of radioactivity blows away Dalton’s idea of ato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indi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27"/>
          <p:cNvSpPr/>
          <p:nvPr/>
        </p:nvSpPr>
        <p:spPr>
          <a:xfrm>
            <a:off x="1600200" y="14479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adioisotopes have unstable nuc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2133720" y="167652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of a nucleus depends on the ratio of neutrons to protons and the size of the nucleus.  The bigger the spread, the more unstable the nucle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9"/>
          <p:cNvSpPr/>
          <p:nvPr/>
        </p:nvSpPr>
        <p:spPr>
          <a:xfrm>
            <a:off x="175248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unstable nuclei emit radiation during radioactiv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30"/>
          <p:cNvSpPr/>
          <p:nvPr/>
        </p:nvSpPr>
        <p:spPr>
          <a:xfrm>
            <a:off x="1295280" y="2971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ypes of radi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1"/>
          <p:cNvSpPr/>
          <p:nvPr/>
        </p:nvSpPr>
        <p:spPr>
          <a:xfrm>
            <a:off x="1447920" y="32767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lpha Radiation:  consists of helium nuclei that have been emitt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2"/>
          <p:cNvSpPr/>
          <p:nvPr/>
        </p:nvSpPr>
        <p:spPr>
          <a:xfrm>
            <a:off x="1676520" y="3657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particles called alpha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33"/>
          <p:cNvSpPr/>
          <p:nvPr/>
        </p:nvSpPr>
        <p:spPr>
          <a:xfrm>
            <a:off x="1447920" y="403848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ta Radiation: electron resulting from the breaking apart of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on, turning into a proton which remains in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and a fast moving electron is relea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34"/>
          <p:cNvSpPr/>
          <p:nvPr/>
        </p:nvSpPr>
        <p:spPr>
          <a:xfrm>
            <a:off x="1752480" y="49528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AIT…WAIT…TIME OUT.  You said a new proton cannot be created, you can never add or subtract to change the atomic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Yes but, unstable radioisotopes are the only excep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never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600200"/>
            <a:ext cx="75438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mma Radiation:  high energy photon emitted by a radioisotope (gamma 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mission of gamma radiation does not alter the atom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very dangerous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2-5   Nuclear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12952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Force = attractive force; acts between ALL nuclear particles th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extremely close together (protons and neutr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1828800"/>
            <a:ext cx="7391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force in the nucleus, the like charges would repel, then break ap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14400" y="2514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= 264 nuclei are stable, more than 1230 are not, therefore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14400" y="31240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decay caused by neutron to proton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219320" y="3505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neutrons (to protons), these decay by turning a neutron into a pro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a particle = Bet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9320" y="41148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not enough neutrons  (to protons), these increase stability by turning protons into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143000" y="4724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l nuclei that have an atomic number greater than 83 are radioa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143000" y="5029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f too many protons and neutrons, they undergo radioactive decay.  Most emit alpha particles = alpha 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life = time required for ½ of the nuclei of a radio isotope to decay to produ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13716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each half life, half of the existing radioactive atoms have decayed into atoms of a new el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14400" y="198108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alf lives can be short (fraction of a second) to very long term (billions of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4068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k Democritus idea, applied the scientific method (throug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tion) and devised 4 ideas to his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14400" y="1600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elements made up of tiny indivisible particles (ato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the same element are identical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666880" y="22860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gold atom looks just like the gold atom next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371600" y="2666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but atoms of one element are different that atoms of another e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990720" y="3429000"/>
            <a:ext cx="7696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of different elements can physically mix together or can chemically combine in simple whole number ratios to form comp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reactions take place when atoms get separated, joined, or rearrang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…atoms of one element are NEVER changed into atoms of another element because of chemical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ton’s  The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ontent Placeholder 3" descr="dalton.jpg"/>
          <p:cNvPicPr/>
          <p:nvPr/>
        </p:nvPicPr>
        <p:blipFill>
          <a:blip r:embed="rId1"/>
          <a:stretch/>
        </p:blipFill>
        <p:spPr>
          <a:xfrm>
            <a:off x="1371600" y="1506600"/>
            <a:ext cx="65530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:  smal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14400" y="13716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radii of atom ( radius = center to ed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>
            <a:off x="2895120" y="1905120"/>
            <a:ext cx="17535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61" name="TextBox 5"/>
          <p:cNvSpPr/>
          <p:nvPr/>
        </p:nvSpPr>
        <p:spPr>
          <a:xfrm>
            <a:off x="9144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em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ked eye = HA  HA  HA ,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 = Yes (scanning tunneling microsc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ructure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38080" y="1371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Subatomic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9907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Elec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ga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205740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discovered by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oms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Plum pudding model) using a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thode ray tube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(see  pg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each electron carries one unit of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negative charge and its mass i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1/184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the mass of a hydrogen at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mass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of electron abou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actual mass = 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9.11 x 10</a:t>
            </a:r>
            <a:r>
              <a:rPr b="0" lang="en-US" sz="1800" spc="-1" strike="noStrike" baseline="30000">
                <a:solidFill>
                  <a:srgbClr val="cc3300"/>
                </a:solidFill>
                <a:latin typeface="Times New Roman"/>
              </a:rPr>
              <a:t>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the energy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14400" y="419112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Prot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sitively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ugene Goldstein provide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vidence using cathode ra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eutron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charged p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990720" y="1447920"/>
            <a:ext cx="723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hadwick confirm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lative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ctual mass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1.67 x 10</a:t>
            </a:r>
            <a:r>
              <a:rPr b="0" lang="en-US" sz="2000" spc="-1" strike="noStrike" baseline="30000">
                <a:solidFill>
                  <a:srgbClr val="cc33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ymbol =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ound 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center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685800" y="29718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enter of the atom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houses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90720" y="3200400"/>
            <a:ext cx="7924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 of nucleus comes from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Rutherford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ho did the gold foil exp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g. 107)     This experiment involved sending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 narrow beam of alpha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rticles (Helium atoms – 2 electrons  giving a double + char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rough a thin sheet of gold foil and observing what the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 majority of particles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passed through, some deflected a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large angles, and some bounced right b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Atom (Rutherford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990720" y="137160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distributed around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nucleus and occupy almost all th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volume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ucleus very smal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in comparison with rest of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ucleus would be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size of a marble on a football field ,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which would be the rest of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del turns ou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o be in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raw table 4.1 on page 106 into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 guide 2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Distinguishing among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38080" y="137160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lls the # of protons in the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each element (atom) has its own unique atomic #, whi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es it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has 1 proton and Helium has 2.  Hydro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always have 1 and can never have 2 or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838080" y="3048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tal # of protons + neutrons in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342900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calculate mass number by adding protons or neutrons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219320" y="4191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show mass number in shorthand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971800" y="47242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7  -------------- ma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3352680" y="48769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0481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 -------------- atomic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op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s with different numbers of neutrons compared with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ns of the at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KEY:  different number of neutrons DOES NOT change 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 (gold isotope is still g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371600" y="19810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Ne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tom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sotope = 10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2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0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905120" y="2895480"/>
            <a:ext cx="64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ame this Neon-22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0p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2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2120" y="3200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Ma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/12 the mass of a carbon-12 at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66680" y="3581280"/>
            <a:ext cx="7315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ference isotope used to compare one mass to another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ecause we use carbon-12 (6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6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the standard, we say that a singl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1 AMU (atomic mass un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66680" y="464832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However the atomic mass of an element is not usually a whole #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57:11Z</dcterms:created>
  <dc:creator>Farwell Area Schools</dc:creator>
  <dc:description/>
  <dc:language>en-US</dc:language>
  <cp:lastModifiedBy>Customer</cp:lastModifiedBy>
  <dcterms:modified xsi:type="dcterms:W3CDTF">2009-09-25T15:51:47Z</dcterms:modified>
  <cp:revision>57</cp:revision>
  <dc:subject/>
  <dc:title>Note Guide 2.1  Defining the atom  </dc:title>
</cp:coreProperties>
</file>